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E9A-567B-4A70-B9BF-A41E2326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C7F-17BD-41E5-818A-7370F380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453-4276-440E-94C8-DDCCAF65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024-C126-401C-B9CD-C6147D89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2A3A-2EAE-430B-96AF-F1DFB6CA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1294-2408-4695-A8AC-6D238B11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194D-677A-4730-9D2F-95F34E5B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14C8-819B-41E7-8719-D0BFCD09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F74F-FD3B-404A-940A-5251FCC4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2196-2119-4BFC-97C1-821835BE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EF49-9C05-41ED-94BF-3C86C589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74F-9AC6-4065-9707-F09CC9F8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9FD7-3035-4324-9F54-F7C5C8B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82F8-4842-400B-A115-3407A696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3AC4-4154-4337-9C4E-F71A09D5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2AE9-06E2-4222-905D-E878B4F9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7F68-8CEC-46FE-9B33-81AC151A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CD5-22F3-4864-8C66-F104E474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2F8F-734E-4135-9B4F-F573290F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AE0-656A-4F92-AF7A-009502E8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623-10F3-4922-B404-7B19E07C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C96-B547-471E-849E-CA84876F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99F-1906-430E-9398-AB0054A7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435-ADD9-4F5E-84E6-45B72BBE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C59F-E3F5-4218-BC5C-BB98BA512AA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8421-A4AF-48B9-9AB3-D5C34350F63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OP TUT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809640" y="3005280"/>
          <a:ext cx="421308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3005280"/>
                    <a:ext cx="421308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ir oyuncu tarafından, durarak, yürüyerek, koşarak ve sıçrama suretiyle, yerde yuvarlanan, potada seken ve pas olarak gelen topların tek veya çift elle alınıp kontrol altına getirilmesine top tutma deni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Çengel 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16280" y="2214720"/>
          <a:ext cx="224784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6280" y="2214720"/>
                    <a:ext cx="224784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tr-TR" sz="2800" spc="-1" strike="noStrike">
                <a:solidFill>
                  <a:srgbClr val="003366"/>
                </a:solidFill>
                <a:latin typeface="Times New Roman"/>
              </a:rPr>
              <a:t>Zor durumlarda pivot oyuncusu atış yapamazsa, potaya toplu dalışlarda ve oyunu süratli olarak başlatmak için bu pası kullanı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378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aslaşma Sırasında Dikkat Edilmesi Gereken Hususl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yuncu pas vereceğini belli etmelidi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s verilecek oyuncu müsait olmadıkça top sürme kesilmemelidi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opu alacak oyuncuya savunmanın uzağına doğru pas verilmelidi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ahayı enine geçen paslardan kaçınılmalıdı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sınızın yerine ulaşacağından şüpheli iseniz o pası hiç atmayı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ntrenör iyi pas atan oyuncuyu motive etmeli ve ödüllendirmelidi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s yaparken vücut dengeli olmalıdı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s alacak oyuncuların her pası alırken hareket etme zorunluluğu vardı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İyi bir paslaşma için her tarafın gözle görülmesi şarttır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er pas için mutlaka aldatma yapı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ütün pasların canlı ve gereken sertlikte atılmasına dikkat edi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ümkünse takım arkadaşlarınızla göz temasında bulununuz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3076560"/>
            <a:ext cx="795816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opun bir oyuncu tarafından çeşitli şekillerde tek veya çift elle kendi takım arkadaşlarına aktarılmasıdır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Yerden 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09640" y="2214720"/>
          <a:ext cx="4446720" cy="31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9640" y="2214720"/>
                    <a:ext cx="4446720" cy="31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866840" y="22143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 pas verilecek kişi ile kendi aramızdaki mesafenin 2/3 civarında zemine vurularak pas verili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3366"/>
                </a:solidFill>
                <a:latin typeface="Times New Roman"/>
              </a:rPr>
              <a:t>Baseball 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838080" y="1295280"/>
          <a:ext cx="152424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15242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2666880" y="1523880"/>
            <a:ext cx="221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op göğüs hizasında omuz üstünde kulak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izasına getirili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4724280" y="1371600"/>
          <a:ext cx="14479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371600"/>
                    <a:ext cx="1447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685800" y="3962520"/>
          <a:ext cx="2209680" cy="18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962520"/>
                    <a:ext cx="2209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477120" y="152388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özler hedefte sol el çekilmiş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ücut ağırlığı sol ayak üstündedir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4038480"/>
            <a:ext cx="144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Kol hedefe doğru ve dü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114800" y="3505320"/>
          <a:ext cx="1905120" cy="22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3505320"/>
                    <a:ext cx="190512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172200" y="3352680"/>
            <a:ext cx="2616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armaklar açık, el topu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rkasından kavramış. Sağ ayak hafif kaldırılır, sonra öne doğru gider. Top bileğin hareketi ile elden çıkar.Dirsek pası alana dönük. Sol el,Dengenin ve topun korunması için kullanılmış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öğüs Pası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762120" y="2209680"/>
          <a:ext cx="76960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6960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609480" y="44197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irsekler vücuda yakın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Kollar öne uzanırken        Top kuvvetli bilek hareket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Topu tutarken kendinizi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         ile elden çıkartılı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sıkmayın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aş Üstü Pa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57200" y="1981080"/>
          <a:ext cx="82296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2296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1219320" y="4267080"/>
          <a:ext cx="640080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267080"/>
                    <a:ext cx="6400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28600" y="32004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Parmaklar topun alt yan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Bilekler geride kollar hafif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Top açık pas yolundan atılı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tarafından kavranmış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aşağı uzatılırken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Top bilekten aşağı doğru itilerek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düşürülmesiyle parmakları terk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eder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7680" y="5942160"/>
            <a:ext cx="82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Top iki eller baş üstünde dirsekler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Avuç içleri pas sonrası yeri gösterir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bükülü vücut dik ve rahat.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Pozisyona göre sıçrayarak veya ön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adım atarak bu pası verebilirsiniz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rkadan 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04920" y="2057400"/>
          <a:ext cx="85341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5341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304920" y="4572000"/>
            <a:ext cx="85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3366"/>
                </a:solidFill>
                <a:latin typeface="Times New Roman"/>
              </a:rPr>
              <a:t>Dribbling esnasında sol ayak öne Doğru atılırken top arkaya alınır ve bilek hareketi ile pas verilir.</a:t>
            </a:r>
            <a:r>
              <a:rPr b="1" lang="tr-TR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k El Alttan P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2819160"/>
            <a:ext cx="3900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op orta parmakların üzerinden yuvarlanarak eli terk eder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876920" y="2819520"/>
          <a:ext cx="390024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819520"/>
                    <a:ext cx="39002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8:49:24Z</dcterms:created>
  <dc:creator>BURAK ATLAY</dc:creator>
  <dc:description/>
  <dc:language>en-US</dc:language>
  <cp:lastModifiedBy>BURAK ATLAY</cp:lastModifiedBy>
  <dcterms:modified xsi:type="dcterms:W3CDTF">2002-11-18T20:04:46Z</dcterms:modified>
  <cp:revision>11</cp:revision>
  <dc:subject/>
  <dc:title>TOP TUTMA</dc:title>
</cp:coreProperties>
</file>