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426-AC24-4C35-A13C-856BE591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4E6-486F-4EBE-9C4E-24F69FF3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D7F-2365-44DA-B76B-F2B528B8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238-0164-49A5-903C-B6EFE628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7C6-B354-4B83-8FB2-91387C34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1937-5E08-4551-A12C-3C4DD01B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11E-ABCD-407C-B0F8-160E5E5C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BDB2-EE71-42F9-BBB2-57317462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2A85-1FF2-422C-920A-7A779CEE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1F21-91E1-413A-BA1F-313B51BD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5B0-4065-4628-9C6E-A94114F9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A1B-0CF1-4556-8376-7F75FEC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07FF-F801-4535-BDFE-D035D7F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A050-8C36-48EC-9EE8-B353B5C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798-4FCC-4892-8A75-221C4AE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294-019E-4F5F-8815-7F7C6464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0272-FEBA-462E-B245-083C3472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432-6BC3-4CCA-ADAC-CE8A154B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845-ADDA-46B3-9D88-A9B4935C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A32-8FF6-48F7-B334-1EBAADC0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92C-03C4-4945-9DDB-E12877E7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212-656A-4F05-9C38-890EA2F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4DF-1B9C-4A34-94F8-B708773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83A-A2F1-4D0B-94CE-9A38F3E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C06-EC70-4774-9FC7-0A7AA4162FAD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758C-3F00-46BF-B571-B3229DA9CD8D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bcbcb"/>
                </a:solidFill>
                <a:latin typeface="Times New Roman"/>
              </a:rPr>
              <a:t>Temel Cimnastik Duruşları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657240"/>
            <a:ext cx="70106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Bacaklar kapalı ayakta duruş: Bacaklar bitişik, kollar yanlarda gövde­ye paralel, baş ve gövde dik olarak yapılan duruştu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 Bacaklar açık ayakta duruş: Ayaklar omuz genişliğinde açık, kollar gövdeye paralel, baş ve gövde dikti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Çömelik duruş: Baş ve gövde dik, vücut ağırlığı ayak uçlarında çömelme hareketidir. Kalça ve topuklar bitişik kollar gövdeye paraleldi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 Dört ayak duruşu: Çömelik duruşta eller omuz hizasında yere dayalı­dır. Dizler kolların arasında yer alır (Şekil 17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- Diz üstü duruş: Bacaklar dizlerden bükülü, ayak bilekleri gergin olarak yere dayalıdır. Üst bacak ve gövde dik, kollar yanlarda vücuda paraleldir </a:t>
            </a:r>
            <a:r>
              <a:rPr b="1" i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i-züstü duruştayken, bir bacağın öne alınarak dizden dik olarak bükülü yere ba­sış ise "tek dizüstü duruş "tur) (Şekil 18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7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6933960" cy="364788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-  Planör duruşu: Ağırlık tek bacak  üzerinde diğer bacak gergin olup yukarıya kaldırılır, kollar yanlarda açık ve gövde ile yere paraleldir (Şekil 27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- Kartal duruşu: Bacaklar açık ayakta duruşta gövde öne bükülerek ye­re paralel durumuna getirilmesidir. Kollar omuz hizasında açık ve gergin yere paraleldir (Şekil 28). 20-  Küçük köprü: Dizler yerde olmak suretiyle, ellerle arkaya uzanıp dayanmadır (Şekil 29)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010280" cy="363384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-  Büyük köprü: Dayanak noktaları ayaklar ve arkaya uzanan ellerdir (Şekil 30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34320" cy="28080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7010640" cy="35067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 Diz üstü oturuş: Diz üstü duruştayken, topuklar üzerine oturuştu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- Bank duruşu: Diz üstü duruştan kollar önde yere dayanır. Üst bacak ve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lar yere dik birbirine paraleldir (Şekil 19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s bank duruşu: Bank duruşunun tersidir. Sırt; yere, göğüs; yukarı dö­nüktür. Kollar ve alt bacaklar birbirine paralel yere dik, ayak ve avuç içleri yere dayalı, baş arkada serbesttir (Şekil 20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317988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- Cephe duruşu: Bank duruşunda bacaklar arkaya gergin uzatılarak ayak uçları yere dayanır. Kollar yere dik, vücut gergindir (Şekil 21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s cephe duruşu: Cephe duruşunun vücudun önü yukarıya, arkasının yere dönük olma durumudur. Ayak bilekleri gergin, topuklar yerde, eller ayak­ların doğrultusunda yere dayalıdır (Şekil 22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6934320" cy="259884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n cephe duruşu: Cephe durumunun yan olarak tek kol ve tek ayağın dış yüzüne dayanılarak yapılmasıd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  Uzun oturuş: Gövde dik, kalça yerde, bacaklar ise öne gergin olarak uzatılır. Kollar yanlarda gövdeye paraleldir (Şekil 23)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çık bacak uzun oturuş: Bacaklar yanlara "V" şeklinde açıl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el oturuşu: Uzun oturuşta, bir bacağın bükülüp arkaya alınmasıd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 Bacaklar bükülü oturuş: Uzun oturuşta, her iki bacağın dizlerden bükülerek tabanların yere dayanmasıd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- Çakı duruşu: Uzun veya bacaklar bükülü oturuşta, bacakların gergin olarak 45 derece yukarıya kaldırılmasıdır. Kollar dirseklerden hafif bükülü, el­ler kalça yanında yere dayalı veya yanlarda omuz hizasında açıktı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- Bağdaş oturuş: Açık bacak uzun oturuşta, bacakların dizlerden bükü­lerek önde çaprazlanmasıdır. Gövde dik, kollar yanlarda serbesttir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400800" cy="36720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-  Sırtüstü yatış: Bacaklar bitişik ve gergin, gövde sırtüstü yatar durum­dadır. Avuçlar yerde, kollar vücudun iki yanında gergind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- Yüzüsütü yatış: Dayanak yüzeyi vücudun ön kısmıdır. Kollar dirsek­lerden bükülü, eller üstüste konularak çene altına yerleştiril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- Yan yatış: Sağa ve sola olup, dayanak yüzeyi vücudun yanı ve gergin bulunan bacaklardır. Yatış yönünün kolu yan-yukarı uzatılmış ve baş altına des­tek olarak konmuştur. Diğer kol gövdenin yanında gergind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 Mum duruşu: Sırtüstü yatışta, ellerle vücut yanlardan kavranır, bacak­lar gergin olarak yukarı kaldırılırken dirseklere dayanarak ağırlık omuzlara ak­tarılır. Dayanak yüzeyi omuzlar ve üst kol olup, vücut ayak uçlarına kadar ger­gin ve yere diktir (Şekil 24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- Hamle duruşu: Küçük adımla yapılan hamle hareketine küçük hamle, büyük adımla yapılan harekete derin hamle denir. Hamle duruşları: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 Öne hamle duruşu: Öne bir adım alınırken bacak dizden bükülür. Göv­de arkadaki gergin bacağın doğrultusunda olup, ağırlık öndeki bükülü bacak üzerindedir. Kollar yanlarda serbesttir (Şekil 25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 Yana hamle: Öne hamlenin sağa veya sola uygulanışıdır. Ayak uçları ve diz adım alınan yönü gösterir, gövde karşıya dönüktü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 Geriye hamle: Geriye adım alınır, vücut ağırlığı arka bacak üzerinde olup öne uzatılan bacak gergindir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2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- İleri hamle: Adımların 45 derece ileri sağ ve sol yönlere alınması ile yapılan hamledir. Ayak ucu ve diz adım yönünü gösterir </a:t>
            </a:r>
            <a:r>
              <a:rPr b="1" i="1" lang="tr-T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amle duruşlarında topuklar yerden kaldırılmaz.) (Şekil 26).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ipe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2:44:23Z</dcterms:created>
  <dc:creator>Alliance</dc:creator>
  <dc:description/>
  <dc:language>en-US</dc:language>
  <cp:lastModifiedBy>kerem</cp:lastModifiedBy>
  <dcterms:modified xsi:type="dcterms:W3CDTF">2008-03-22T16:20:55Z</dcterms:modified>
  <cp:revision>5</cp:revision>
  <dc:subject/>
  <dc:title>Temel Cimnastik Duruşları </dc:title>
</cp:coreProperties>
</file>